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53BB-8726-4318-ADAD-18921133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D30-CB08-4B0A-80E1-484DB8FF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793C-4FF7-4231-B963-BF2CEFE9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B32-9AD5-448A-9FAA-CB706C70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527-F6A5-436E-9B09-648EFF7B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5E8-6FC1-4EA3-BB4C-D159EBD3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320-EA4D-4608-B24F-CFBAC74F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C51-7857-425A-A5DE-ED1E8CA8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C7C-4B31-4743-A30E-6E9C92EC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5C6-B969-4C7C-9795-1F0A5CA5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E80-BE90-4834-B7F9-1E1E3A70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0BB-9B00-4ADC-8D0D-EBE9746B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3CA1-D82A-4AEA-BC4B-6886911AC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elicioustv.com/blog/wp-content/uploads/2007/06/raddicho-pasta500.jpg&amp;imgrefurl=http://www.delicioustv.com/blog/%3Fcat%3D31&amp;h=348&amp;w=500&amp;sz=179&amp;hl=en&amp;start=18&amp;um=1&amp;tbnid=78Dw-YYPmakBnM:&amp;tbnh=90&amp;tbnw=130&amp;prev=/images%3Fq%3Dpasta%26svnum%3D10%26um%3D1%26hl%3Den%26safe%3Dactive%26rls%3Dcom.microsoft:en-us%26sa%3D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onelyplanet.com/worldguide/destinations/asia/cambodia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www.archipelago.nu/SKARGARD/ENGELSKA/CAMBODIA/tonle%2520sap.jpg&amp;imgrefurl=http://www.archipelago.nu/SKARGARD/ENGELSKA/CAMBODIA/tonle%2520sap.htm&amp;h=1008&amp;w=1616&amp;sz=97&amp;hl=en&amp;start=4&amp;um=1&amp;tbnid=-Yx2RJMweQdk_M:&amp;tbnh=94&amp;tbnw=150&amp;prev=/images%3Fq%3DTonle%2Bsap%26svnum%3D10%26um%3D1%26hl%3Den%26safe%3Dactive%26rls%3Dcom.microsoft:en-us%26sa%3D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5/5f/Wat_Phnom-Phnom_Penh-Cambodia.jpg&amp;imgrefurl=http://commons.wikimedia.org/wiki/Image:Wat_Phnom-Phnom_Penh-Cambodia.jpg&amp;h=1162&amp;w=771&amp;sz=376&amp;hl=en&amp;start=17&amp;um=1&amp;tbnid=2meCkGefpbKb2M:&amp;tbnh=150&amp;tbnw=100&amp;prev=/images%3Fq%3Dphnom%2Bpenh%26svnum%3D10%26um%3D1%26hl%3Den%26safe%3Dactive%26rls%3Dcom.microsoft:en-us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villageearth.org/pages/Projects/Cambodia/blog/uploaded_images/Cambodia5-753211.jpg&amp;imgrefurl=http://villageearth.org/pages/Projects/Cambodia/blog/&amp;h=375&amp;w=500&amp;sz=64&amp;hl=en&amp;start=9&amp;um=1&amp;tbnid=CJrd3N7TyWLD9M:&amp;tbnh=98&amp;tbnw=130&amp;prev=/images%3Fq%3Dpersonal%2Bappearance%2Bin%2Bcambodia%26ndsp%3D20%26svnum%3D10%26um%3D1%26hl%3Den%26safe%3Dactive%26rls%3Dcom.microsoft:en-us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images29.fotki.com/v1009/photos/9/98454/5340310/DSC_5827-vi.jpg&amp;imgrefurl=http://beyondthetundra.com/category/asia/cambodia/&amp;h=465&amp;w=700&amp;sz=44&amp;hl=en&amp;start=7&amp;um=1&amp;tbnid=uL0aG5uXbdlV6M:&amp;tbnh=93&amp;tbnw=140&amp;prev=/images%3Fq%3D%2Bcambodian%2Bkids%26svnum%3D10%26um%3D1%26hl%3Den%26safe%3Dactive%26rls%3Dcom.microsoft:en-us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2.static.flickr.com/1138/912007390_c7f39f84aa.jpg&amp;imgrefurl=http://www.flickr.com/photos/50781821%40N00/912007390/&amp;h=360&amp;w=480&amp;sz=88&amp;hl=en&amp;start=2&amp;um=1&amp;tbnid=keV6aZAl7MKWaM:&amp;tbnh=97&amp;tbnw=129&amp;prev=/images%3Fq%3Dcambodians%2Beating%26svnum%3D10%26um%3D1%26hl%3Den%26safe%3Dactive%26rls%3Dcom.microsoft:en-us%26sa%3D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nline.culturegrams.com/gallery/albumindex.php?useraid=80&amp;index=16&amp;refername=Photo%20Gallery&amp;referid=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online.culturegrams.com/gallery/albumindex.php?useraid=80&amp;index=15&amp;refername=Photo%20Gallery&amp;referid=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cambodia.com/images/cambodia%2520girl%2520bamboo.jpg&amp;imgrefurl=http://www.allcambodia.com/&amp;h=425&amp;w=567&amp;sz=118&amp;hl=en&amp;start=17&amp;um=1&amp;tbnid=9s3KXe-N-iooNM:&amp;tbnh=100&amp;tbnw=134&amp;prev=/images%3Fq%3Dcambodia%2B%26ndsp%3D20%26svnum%3D10%26um%3D1%26hl%3Den%26safe%3Dactive%26rls%3Dcom.microsoft:en-us%26sa%3D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eihin.com/i/06/02/takitatei.jpg&amp;imgrefurl=http://www.seihin-world.com/s/2006/02/&amp;h=230&amp;w=323&amp;sz=17&amp;hl=en&amp;start=21&amp;um=1&amp;tbnid=zFtwuncRWJ2SbM:&amp;tbnh=84&amp;tbnw=118&amp;prev=/images%3Fq%3Drice%2Bin%2Ba%2Bbowl%26start%3D20%26ndsp%3D20%26svnum%3D10%26um%3D1%26hl%3Den%26safe%3Dactive%26rls%3Dcom.microsoft:en-us%26sa%3D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img.alibaba.com/photo/10907809/Cashew_Kernels_Nuts_W210_W240_W320_W450_WB_WS_LWP.jpg&amp;imgrefurl=http://www.alibaba.com/catalog/10907809/Cashew_Kernels_Nuts_W210_W240_W320_W450_WB_WS_LWP.html&amp;h=480&amp;w=640&amp;sz=30&amp;hl=en&amp;start=1&amp;um=1&amp;tbnid=otOB3v5ePXXhJM:&amp;tbnh=103&amp;tbnw=137&amp;prev=/images%3Fq%3Dcashew%26svnum%3D10%26um%3D1%26hl%3Den%26safe%3Dactive%26rls%3Dcom.microsoft:en-us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95480" y="2286000"/>
            <a:ext cx="3200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mbod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Cambodia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i en franç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’app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uis 1.42240 me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douze 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 anniversaire le 20 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s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âtes et la limon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4724280"/>
            <a:ext cx="2133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i en fraç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’app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uis1.60020 me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douze 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 anniversaire est le vingt-sept fév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 nouille, et le ping-p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5181480"/>
            <a:ext cx="1676520" cy="1549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943600" y="5410080"/>
            <a:ext cx="152388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and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ligion are most people in Cambo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dh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Cambodians ea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ns, chopsticks, and there fi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ould like to visit Cambodia someday because now that we know more about it, we would like to experience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Siem reap Luxury hotel 5 star in Angkor wat Cambodia"/>
          <p:cNvPicPr/>
          <p:nvPr/>
        </p:nvPicPr>
        <p:blipFill>
          <a:blip r:embed="rId1"/>
          <a:stretch/>
        </p:blipFill>
        <p:spPr>
          <a:xfrm>
            <a:off x="6781680" y="2057400"/>
            <a:ext cx="17528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g &amp;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 is located in Southeastern Asia, bordering the Gulf of Thailand, between Thailand, Vietnam, and La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52880" y="3809880"/>
            <a:ext cx="3581640" cy="236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Map of Cambod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581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You Kn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gkor W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gkor Temple) is Cambodia's most cherished national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nle Sap is the only river in the world that reverses its flow annually which is in Cambod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105280" cy="1409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228600"/>
            <a:ext cx="205740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y &amp; Developmen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Cambodia is Phnom Pen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is  13,881,427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 is 13 hours and 30 minutes behind Orem Utah’s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l GDP per capita is $2,42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4800" y="4190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4648320"/>
            <a:ext cx="20574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languages in Cambodge is Khmer, Loa, Thai.  French is used sometimes to speak to older offic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95% of Cambodians are Theravada Buddhi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-style clothing is worn in Phnom Penh, the clothing is simple and not always moder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52280"/>
            <a:ext cx="2057400" cy="1551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228600"/>
            <a:ext cx="20574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s &amp; Courtes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ns greet by placing both hands together in a prayer position at chest level without touching the body. They bow to show resp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sitting, one doesn’t point their feet  toward a Buddha image or a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ns eat with chopsticks, spoons, and their fi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5292720"/>
            <a:ext cx="198108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n families have around four children and are willing to adopt orph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ns marry between the ages of 16 and 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dishes in Cambodia are soup and r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ns enjoy soccer and volley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ddhist festival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un 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marked for the d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Bri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Cambodian Weddi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0492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 is a constitutional monarchy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education is from being a monk in their Buddhist reli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ns often travel short distances by bike or motorcyc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4495680"/>
            <a:ext cx="26668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 French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ball = Soc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pe = S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z = 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x de cajou = Cashew 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outchouc = Rub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825560" cy="1300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304920"/>
            <a:ext cx="1600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8:49:37Z</dcterms:created>
  <dc:creator>CVJH-LAB</dc:creator>
  <dc:description/>
  <dc:language>en-US</dc:language>
  <cp:lastModifiedBy>nield411</cp:lastModifiedBy>
  <dcterms:modified xsi:type="dcterms:W3CDTF">2008-01-18T16:29:11Z</dcterms:modified>
  <cp:revision>29</cp:revision>
  <dc:subject/>
  <dc:title>Cambodge (Cambodia)</dc:title>
</cp:coreProperties>
</file>